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FD8-CE87-413D-A3EB-5163C388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4F0-CC3B-4A83-9DF5-A964047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E4F-9193-4442-815D-A6B6D274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9C2-38A7-4A79-9195-86DFDB76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7FA-A282-4379-86D9-51253AB6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CD2-F701-4BEC-8FC8-BD4E4EDF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E38-2411-42AB-8816-6F088224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622-0421-4C99-B5B8-D3776E00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96F-A0AE-42F0-B9CD-700ED0EA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0F5-EA92-44B9-942A-00ABA6A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268-A5E7-473D-819F-A6E2AAE6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145-094D-46C6-BDF2-8D1E47E0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265-F127-463F-9973-6D4BE92D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26264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65720"/>
            <a:ext cx="9144000" cy="287640"/>
          </a:xfrm>
          <a:prstGeom prst="rect">
            <a:avLst/>
          </a:prstGeom>
          <a:gradFill rotWithShape="0">
            <a:gsLst>
              <a:gs pos="0">
                <a:srgbClr val="7aabf2">
                  <a:alpha val="77254"/>
                </a:srgbClr>
              </a:gs>
              <a:gs pos="100000">
                <a:srgbClr val="d3e3f9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qual right to pension benefits?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gal implications of the Maruko judgment</a:t>
            </a:r>
            <a:br>
              <a:rPr sz="2000"/>
            </a:br>
            <a:br>
              <a:rPr sz="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anel sponsored by th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ropean Commission on Sexual Orientation Law (ECSO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5157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LGA-Europe Annual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enna, 31 October 200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484280"/>
            <a:ext cx="28800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66"/>
                </a:solidFill>
                <a:latin typeface="Arial"/>
              </a:rPr>
              <a:t>Helmut Graup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66"/>
                </a:solidFill>
                <a:latin typeface="Arial"/>
              </a:rPr>
              <a:t>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2781360"/>
            <a:ext cx="72741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Tadao Maruk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graupner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adao Maruk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discrimination (as referral to pregnancy is direct discrimination on the ground of sex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eeds not be decided, as in an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Indirect discrim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t only in case of RP equivalent to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long as marriage is forbidden for same-sex cou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on of marriage always is just „apparently neutral“ and puts homosexuals „at a particular disadvantage” (Art. 2 par. 2 lit.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y is made contingent upon a condition which same-sex couples never ever can ful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in K.B. (2004) (opposite-sex couples with post-operative transgender partner were not allowed to mar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dition of marriage must be dropped for same-sex couples (as long as marriage is not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therwise: little discrimination (in MS with marriage-equivalent RP) outlawed, but big discrimination (in MS without such RP) not (despite same unequal trea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he Judgment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01.04.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civil status and the benefits flowing therefrom are matters which fall within the competence of the Member States 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in the exercise of that competence the Member States must comply with Community law and, in particular, with the provisions relating to the principle of non-discr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) Recital 22 cannot affect the application of the Directive (par. 59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irect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if registered partners „in comparable situation“ as married partners (par. 70-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. 2 par. 1 lit. a Dir 2000/78/EC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 discrimination …where one person is treated less favoura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 another … in a comparable situation,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Justification only possible under Art. 4 Abs. 1 („genuine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determining occupational requirement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„comparable situation“</a:t>
            </a: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) form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ation is task of the national court (par. 72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) in sub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Comparability“, not „Identity“ (par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 far as concerns that survivor’s benef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ndividual-concrete comparison with the „situation comparable to that of a spouse who is entitled to the survivor’s benefit provided for under the occupational pension scheme managed by the VddB.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riteria of the national court (par. 62, 69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formally constituted fo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ion of mutual support and as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ECJ does not object to these criteria and explicitly say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combined provisions of Articles 1 and 2 of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ive 2000/78 preclude legislation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uch a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that at issue in the main proceeding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…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Compare to the judgment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laci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00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hibition on any discrimination on grounds of age … must be interpreted as not precluding national legislati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ch as that at issue in the main procee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[follow criteria which the national court has to apply in determining compatibility with community law]” 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V.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Reaction of German High Courts</a:t>
            </a:r>
            <a:br>
              <a:rPr sz="32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ecisions on family allowance for civil servants, § 40 Abs. 1 Nr. 1 BBes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Administrative Court („Bundesverwalt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C 33.06, 15.11.2007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rability,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RP and marriage are not identic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fferences for instance regarding social benefits for civil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ants, in tax legislation and joint ado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omplete or general equalization was neither done nor intended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legi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Constitutional Court („Bundesverfass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BvR 1830/0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06.05.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rability,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 general statutory eq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equalization was not the intention of the legisl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no blanket cl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) special regulations with deviations form the law of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 complete equalization in the law of public sector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ill differences in remuneration and pension-righ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spouses typically in need of alimony by partner; RP typically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rrelevant that civil law maintenance-obligations are identical (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riage and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eq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ircular reasoning (if general equalization would have taken place 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equality would exist, and question of discrimination would no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ization in social benefits for public sector employe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ircular reasoning (discrimination is justified with anoth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i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/non-typical need of alimon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general-abstract approach which contradicts the individua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rete view of the EC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family-allowance is not dependend upon a need of alimony (als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less civil servants receive it. Even if their married partn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ns more then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V.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law of Bundesverwaltungs- and Bundesverfassungsge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ontradict ECJ in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is view is not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n any way not unreas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bligation to refer to the ECJ (asking for the criteria for the test of compar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ituation of married and registered partners are not compa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then question of indirect discrimination (by referring to the exclusively heterosexual criterion “marriag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bligation to refer to the EC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uko could go up to the ECJ two mor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G München 30.10.2008 (not fin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awarded survivors pension to Mr. Maruk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surviving RP and surviving married partners in a comparable situation,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survivors benefits are substitutes for alimony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alimony-duties are the same in RP and m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cas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ömer vs. City of Hambur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-147/08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higher retirement pension for employee with married partner then fo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ee with R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even if married partner has higher income then employee and they ha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even if RP is in need of alimony by the employee and they have to 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will the ECJ specify or extend the Maruko-judg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gradFill rotWithShape="0">
            <a:gsLst>
              <a:gs pos="0">
                <a:srgbClr val="2121ff">
                  <a:alpha val="46274"/>
                </a:srgbClr>
              </a:gs>
              <a:gs pos="100000">
                <a:srgbClr val="bbe0e3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en-US" sz="3600" spc="-1" strike="noStrike">
                <a:solidFill>
                  <a:srgbClr val="00004c"/>
                </a:solidFill>
                <a:latin typeface="Arial"/>
              </a:rPr>
              <a:t>graup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-Maruko Case-Law of the E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as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dao Maru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Reaction of German High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ry essence of the convention is respect for human dignity and freed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ion of personal autonomy is an important principle underlying the interpretation of the right to respect for private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xuality and sexual life are at the core of the fundamental right to protection of private life. State intervention interferes with this right; and such interferences are justified only if demonstrably necessary to avert damage from others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ressing social need, proportional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itudes and moral convictions of a majority cannot justify interferences into the right to private life (or into other human righ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04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76"/>
                </a:solidFill>
                <a:latin typeface="Arial"/>
              </a:rPr>
              <a:t>I. European Court of Human Rights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5013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Dudgeon vs. U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1981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orris vs. Irela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1988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Modinos vs. Cypru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1993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Laskey, Brown &amp; Jaggard vs. U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1997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Lustig-Prean &amp; Beckett vs. U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mith &amp; Grady vs. U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D.T. vs. UK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0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hristine Goodwin vs. UK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2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. vs. UK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2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retté vs. Fra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2002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L. &amp; V. v. Austri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.L. v. Austri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3)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rimination on the basis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unaccept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as serious as discrimination on the ground of race, ethnic origin, religion and s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fferentiation requires particularly serious rea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Lustig-Prean &amp; Beckett vs. 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mith &amp; Grady vs. UK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9; Salgueir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 Silva Mouta vs. Portug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999;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. &amp; V. v. Austr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.L. v. Austri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.B. vs. Fr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74560" y="476280"/>
            <a:ext cx="8569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just negative rights to freedom from state inter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rights to (active) protection of these rights in relation to the state as well as in relation to other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ligation of the state to act in case of intereference with the right to personal development and the right to establish and maintain relations with other human being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(Zehnalová &amp; Zehnal vs. CZ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76"/>
                </a:solidFill>
                <a:latin typeface="Arial"/>
              </a:rPr>
              <a:t>II. </a:t>
            </a:r>
            <a:br>
              <a:rPr sz="3200"/>
            </a:br>
            <a:r>
              <a:rPr b="1" lang="de-AT" sz="3200" spc="-1" strike="noStrike">
                <a:solidFill>
                  <a:srgbClr val="000076"/>
                </a:solidFill>
                <a:latin typeface="Arial"/>
              </a:rPr>
              <a:t>Pre-Maruko Case-Law of the EC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Grant vs. South West Train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998 (C-249/9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emale employee was denied social-benefits for her female partner, which  benefits a male employee for his (unmarried) female partner did rece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 no discrimination on the ground of sex (Art. 141 EC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D. &amp; Sweden v. Counci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2001 (C-122,125/9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household-allowance for same-sex partner (registered in Sweden) of a Swedish employee of the Council, while employees with a married partner in the same situation received the allow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ither discrimination on the basis of sex nor on the basis of sexual 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EU-legislator reacted to both jud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Grant (1998) -&gt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r 2000/78/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D. &amp; Sweden (2001) -&gt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g (EG, EURATOM)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               723/200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(Amendment of Staff Regulation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. Ban of discrimination (Art. 1d par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. Equal rights for registred partnerships as for marriage, if marriage is not available (Art. 1d par. 1 &amp; Appendix VII Art. 1 par. 2 lit.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II.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dao Maruko geg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sorgungsanstalt der deutschen Bühnen (VddB) 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C-267/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ans Hettinger: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costume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member of Vd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paid fees to VddB as hi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heterosexual collea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13 years of partnership with Mr. Tada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died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ddB: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survivors benefits only to married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no pension to Tadao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adao Maruko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legal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ayrVG München M 3 K 05.15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ayrVG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ferral for a preliminary r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direct discrimin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discrimination justified by recital 22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irective is without prejudic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laws on marital statu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enefits dependent there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VddB &amp; U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-&gt; unequal treatment of married couples an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stered couples are outside of the scope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rective (due to recital 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0:36:17Z</dcterms:created>
  <dc:creator>HG</dc:creator>
  <dc:description/>
  <dc:language>en-US</dc:language>
  <cp:lastModifiedBy>Ihr Benutzername</cp:lastModifiedBy>
  <dcterms:modified xsi:type="dcterms:W3CDTF">2009-06-28T21:55:18Z</dcterms:modified>
  <cp:revision>106</cp:revision>
  <dc:subject/>
  <dc:title>Folie 1</dc:title>
</cp:coreProperties>
</file>