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DFF-F48E-451C-9255-0EDE1F8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453-5293-494B-8570-715DE73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66E-F191-4A10-8377-B1FEA2EF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1CF-6DDA-42E3-9C68-FC21CC56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383-3101-4CC0-9520-B3BEC7D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73B-9117-4B98-B5B7-86B2F34D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3F6-7D15-41D4-8E90-E0736FC7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873-579B-4443-9E32-9B6B3BF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644-2754-41DF-A88D-C26A529A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52A-9BEC-4043-8AA5-8BAC4AB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D49-07F7-4428-A199-D80F758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E8D-C3AC-4698-81A4-93EFA5B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2F9-F5CD-4D19-9964-9A46BF33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26264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7aabf2">
                  <a:alpha val="77254"/>
                </a:srgbClr>
              </a:gs>
              <a:gs pos="100000">
                <a:srgbClr val="d3e3f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256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QUINET Legal 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CONCEPTS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LE OF THE EUROPEAN COURT OF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ussels, 30 June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80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234936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Sexual Orientation &amp; Gender Identity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in the ECJ's Rulin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Judgment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01.04.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al 22 cannot affect the application of the Directive (par. 59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f registered partners „in comparable situation“ as married partners (par. 70-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. 2 par. 1 lit. a Dir 2000/78/E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…where one person is treated less favoura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another … in a comparable situation,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Justification only possible under Art. 4 Abs. 1 („genuine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determining occupational requirement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„comparable situation“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) form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is task of the national court (par. 72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) in sub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Comparability“, not „Identity“ (par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 far as concerns that survivor’s benef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dividual-concrete comparison with the „situation comparable to that of a spouse who is entitled to the survivor’s benefit provided for under the occupational pension scheme managed by the VddB.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riteria of the national court (par. 62, 6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formally constituted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on of mutual support and as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ECJ does not object to these criteria and explicitly say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combined provisions of Articles 1 and 2 of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ive 2000/78 preclude legislatio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uch a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that at issue in the main proceeding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mpare to the judgmen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lac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00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hibition on any discrimination on grounds of age … must be interpreted as not precluding national legislati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ch as that at issue in the main procee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[follow criteria which the national court has to apply in determining compatibility with community law]” 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Reaction of German High Courts</a:t>
            </a:r>
            <a:br>
              <a:rPr sz="32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cisions on family allowance for civil servants, § 40 Abs. 1 Nr. 1 BBe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Administrative Court („Bundesverwalt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C 33.06, 15.11.2007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RP and marriage are not identic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fferences for instance regarding social benefits for civi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ants, in tax legislation and joint ad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mplete or general equalization was neither done nor intended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the legi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Constitutional Court („Bundesverfass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BvR 1830/0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06.05.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general statutory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equalization was not the intention of the legisl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o blanket cl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 special regulations with deviations form the law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 complete equalization in the law of public sector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ill differences in remuneration and pension-r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spouses typically in need of alimony by partner; RP typically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rrelevant that civil law maintenance-obligations are identical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riage and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if general equalization would have taken place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equality would exist, and question of discrimination would n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ization in social benefits for public sector employe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ircular reasoning (discrimination is justified with anoth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/non-typical need of alimon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general-abstract approach which contradicts the individu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rete view of the EC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family-allowance is not dependend upon a need of alimony (als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less civil servants receive it. Even if their married partn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ns more then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law of Bundesverwaltungs- and Bundesverfassungsge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ntradict ECJ in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is view is not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 any way not un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 (asking for the criteria for the test of compar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ituation of married and registered partners are not compa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then question of indirect discrimination (by referring to the exclusively heterosexual criterion “marriag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bligation to refer to the E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uko could go up to the ECJ two mor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G München 30.10.2008 (not fin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awarded survivors pension to Mr. Maruk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surviving RP and surviving married partners in a comparable situation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survivors benefits are substitutes for alimony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alimony-duties are the same in RP and m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cas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ömer vs. City of Hambur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-147/0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higher retirement pension for employee with married partner then fo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ee with R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married partner has higher income then employee and they ha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even if RP is in need of alimony by the employee and they have to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&gt; will the ECJ specify or extend the Maruko-judg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2121ff">
                  <a:alpha val="46274"/>
                </a:srgbClr>
              </a:gs>
              <a:gs pos="100000">
                <a:srgbClr val="bbe0e3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I. </a:t>
            </a:r>
            <a:br>
              <a:rPr sz="3200"/>
            </a:b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Gender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. vs. S. &amp; Cornwall Coun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Council 1996 (C-13/9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. informed employer of the intention to undergo gender reassignment -&gt; dismiss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Dir 76/207/EEC precludes dismissal of a transsexual for a reason related to a gender reassignmen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K.B. vs. National Health Service Pensions Agency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2004 (C-117/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.B. (female) &amp; R (male after gender reassignment) banned from marri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Such legislation precluded by Art. 141 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1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c) Sarah Margaret Richards v Secretary of State for Work and Pension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006 (C-423/0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le-to-female transsexual was denied pension at pension age for wome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discrimination on the ground of sex (Dir 79/E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II. </a:t>
            </a:r>
            <a:br>
              <a:rPr sz="3200"/>
            </a:br>
            <a:r>
              <a:rPr b="1" lang="de-AT" sz="3200" spc="-1" strike="noStrike">
                <a:solidFill>
                  <a:srgbClr val="000076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Grant vs. South West Train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998 (C-249/9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male employee was denied social-benefits for her female partner, which  benefits a male employee for his (unmarried) female partner did rece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no discrimination on the ground of sex (Art. 141 E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D. &amp; Sweden v. Counci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2001 (C-122,125/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household-allowance for same-sex partner (registered in Sweden) of a Swedish employee of the Council, while employees with a married partner in the same situation received the allow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ither discrimination on the basis of sex nor on the basis of sexual 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EU-legislator reacted to both jud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Grant (1998) -&gt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r 2000/78/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D. &amp; Sweden (2001) -&gt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g (EG, EURATOM)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               723/200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(Amendment of Staff Regulation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Ban of discrimination (Art. 1d par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. Equal rights for registred partnerships as for marriage, if marriage is not available (Art. 1d par. 1 &amp; Appendix VII Art. 1 par. 2 lit.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dao Maruko ge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orgungsanstalt der deutschen Bühnen (VddB) 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C-267/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s Hettinger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costume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member of Vd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paid fees to VddB as 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heterosexual collea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13 years of partnership with Mr. Tada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 2001 registered their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died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ddB: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survivors benefits only to married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no pension to Tadao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adao Maruko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legal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ayrVG München M 3 K 05.15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yrVG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ferral for a preliminary r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direct discrimin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discrimination justified by recital 2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irective is without prejudic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laws on marital stat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enefits dependent there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ddB &amp; U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-&gt; unequal treatment of married couples a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ered couples are outside of the scop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(due to recital 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adao Maruk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(as referral to pregnancy is direct discrimination on the ground of sex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eeds not be decided, as in an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Indirect discrim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t only in case of RP equivalent to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long as marriage is forbidden for same-sex cou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on of marriage always is just „apparently neutral“ and puts homosexuals „at a particular disadvantage” (Art. 2 par. 2 lit.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 is made contingent upon a condition which same-sex couples never ever can ful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in K.B. (2004) (opposite-sex couples with post-operative transgender partner were not allowed to mar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dition of marriage must be dropped for same-sex couples (as long as marriage is no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Otherwise: little discrimination (in MS with marriage-equivalent RP) outlawed, but big discrimination (in MS without such RP) not (despite same unequal trea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European Commission &amp;</a:t>
            </a:r>
            <a:br>
              <a:rPr sz="2600"/>
            </a:b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Advocate General Dámaso Ruiz-Jarabo Colom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63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no direct discrimination (no referral to sexual ori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indirect discrimination &amp; no justification vi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but only: if RP is marriage-equivalent („substantially the same effects“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 of comparative paramete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arriage-R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pposite-sex couples vs. same-sex coup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Ihr Benutzername</cp:lastModifiedBy>
  <dcterms:modified xsi:type="dcterms:W3CDTF">2009-06-28T22:21:31Z</dcterms:modified>
  <cp:revision>117</cp:revision>
  <dc:subject/>
  <dc:title>Folie 1</dc:title>
</cp:coreProperties>
</file>