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B58-D2A1-4CFD-85C6-1BDBF84B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9C7-C4C2-49CD-AF11-ED45E153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6FA-E7A1-4C98-A00F-D49E9DD0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CB2-AA28-45F4-8B78-445096D9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266-6A89-454A-B034-75CCB133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1F6-DD13-40F0-A238-CA1728EF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DF2-26FA-4D09-B6D5-8E9EB57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881-C2D8-402A-8CB5-6AED056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016-95FE-4471-AE37-B01E848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70D-E1BA-4AE8-BFC1-4755207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AC7-927D-420C-B900-21A967FE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413-FA14-428A-A4E5-614817E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CA3D-C3D0-4A7B-8428-944A2637B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26264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65720"/>
            <a:ext cx="9144000" cy="287640"/>
          </a:xfrm>
          <a:prstGeom prst="rect">
            <a:avLst/>
          </a:prstGeom>
          <a:gradFill rotWithShape="0">
            <a:gsLst>
              <a:gs pos="0">
                <a:srgbClr val="7aabf2">
                  <a:alpha val="77254"/>
                </a:srgbClr>
              </a:gs>
              <a:gs pos="100000">
                <a:srgbClr val="d3e3f9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42920" y="4581360"/>
            <a:ext cx="72741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quality and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GBTI Rights in the XXI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ternational Confe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lorence, 12-13 May 20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484280"/>
            <a:ext cx="28800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mut Graup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2349360"/>
            <a:ext cx="820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66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7393f9">
                      <a:alpha val="50000"/>
                    </a:srgbClr>
                  </a:outerShdw>
                </a:effectLst>
                <a:latin typeface="Aunchanted Expanded Bold"/>
              </a:rPr>
              <a:t>The ECJ Römer Judgment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66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7393f9">
                    <a:alpha val="50000"/>
                  </a:srgbClr>
                </a:outerShdw>
              </a:effectLst>
              <a:latin typeface="Aunchanted Expanded Bold"/>
              <a:ea typeface="Aunchanted Expanded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66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7393f9">
                      <a:alpha val="50000"/>
                    </a:srgbClr>
                  </a:outerShdw>
                </a:effectLst>
                <a:latin typeface="Aunchanted Expanded Bold"/>
              </a:rPr>
              <a:t>a first assessment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66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7393f9">
                    <a:alpha val="50000"/>
                  </a:srgbClr>
                </a:outerShdw>
              </a:effectLst>
              <a:latin typeface="Aunchanted Expanded Bold"/>
              <a:ea typeface="Aunchanted Expanded Bold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graupner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I.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 Reaction of German High Courts</a:t>
            </a:r>
            <a:br>
              <a:rPr sz="32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decisions on family allowance for civil servants, § 40 Abs. 1 Nr. 1 BBes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deral Administrative Court („Bundesverwaltungsgericht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 C 33.06, 15.11.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deral Constitutional Court („Bundesverfassungsgericht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 BvR 1830/0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06.05.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mparability,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RP and marriage are not identic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ifferences for instance regarding social benefits for civil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ants, in tax legislation and joint ado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omplete or general equalization was neither created nor intended by the legi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rrelevant that civil law maintenance-obligations are identical (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riage and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ederal Constitutional Court („Bundesverfassungsgericht“) </a:t>
            </a:r>
            <a:br>
              <a:rPr sz="36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1 BvR 1164/0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 07.07.09)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jects its own (and Federal Administrative Court’s) prior case-law (par. 1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ict scrutiny for distinctions based on sexual orientation (par. 85, 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tection of marriage” alone no justification (Art. 1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motion of the family” not restricted to married partners (par. 10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mber of children (2.200) in RPs (13.000) not “negligible” (par. 1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rious differences” (between marriage &amp; RP) required (par. 9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ces must be related to the social benefit in question and to its aim and purpose (par. 86, 10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sessment of differences not upon abstract considerations but upon concrete reality of life (par. 112, 114, 115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differences (par. 102, 111-113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a) unlimited legally binding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ion of mutual support and assist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b) maintenance oblig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c) need for ali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rvivors benefits are substitutes for alimony (par. 116, 11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&gt; RP entitled to same survivor’s pension as married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aruk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&gt; VddB withdraw their appe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&gt; judgment of VG München final &amp; Tadao Maruko gets survivors pe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II.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he Case </a:t>
            </a:r>
            <a:r>
              <a:rPr b="1" i="1" lang="de-DE" sz="4000" spc="-1" strike="noStrike">
                <a:solidFill>
                  <a:srgbClr val="000000"/>
                </a:solidFill>
                <a:latin typeface="Arial"/>
              </a:rPr>
              <a:t>Jürgen Rö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cas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Römer vs. City of Hamburg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C-147/08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higher retirement pension for employee with married partner then for employee with R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even if married partner has higher income then employee and they have no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even if RP is in need of alimony by the employee and they have to care for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will the ECJ specify or extend the Maruko-judg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Will it rule on indirect discrim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Advocate General Niilo Jääskinen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Opinion 15. Juli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686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confirms interpretation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ruk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s outlined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marriage and family-law: competence of member-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if marriage excludes same-sex cou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ment benefits must not be restricted to opposite-sex couples, otherw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Discri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&gt; if legal position marri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couples-reg couples is compa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irect Discri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&gt; (a) if legal position marri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couples-reg couples is 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comparabl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if no registration at a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marriage and the family as such no valid justification for discrimination (par. 106-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neither if such protection is enshrined in a national constit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on-law supersed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ional constitutiona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prohibition of discrimination on the basis of sexual orientation i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 principle of Union la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par. 129-1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prohibition of discrimination not restricted to periods after entry into force of Dir 2000/78/EC, but it takes full effect before this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equal treatment and compensation can be claim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 to the beginning of a certain discr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he Judgment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nd Chamber, 10.05.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confirms interpretation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ruk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s outlined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marriage and family-law: competence of member-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if marriage excludes same-sex cou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ment benefits must not be restricted to opposite-sex couples, otherw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Discri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&gt; if legal position marriage-rp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compa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mpar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1) task of the national judge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2) criteri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mpar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not identical) sit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ar. 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ecific and concre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not global 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stract) comparison (par. 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in the light of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nefit concern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ar. 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focus 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releva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ights and obligation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ccording to th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the benefit at issue) (par. 4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NOT (“must not”):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verall comparison between marriage and registered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partnershi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ar. 42, 4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eople (couples) are to be compar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t abstract legal institu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relevant rights/obligations for partner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lement to retirement pen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tual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are and sup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ar. 46-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those obligations incumbent both on lif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s and on married spouses (par. 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since creation of registered partnership (par. 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marriage and the family in a national constitution as such is no valid justification for discrimination,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on-law supersed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ional constitutional law (par. 37, 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inciple of equal treat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rives from international instruments and from the constitutional traditions common to the Member States (see Dir 2000/78/EC, recital 3 &amp; 4 “right of all persons to equality before the law and protection against discrimination”) (par. 59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ngo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5, par. 74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ücükdevec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10, par. 20;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ayn-Wittgenste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11, par. 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Dir 2000/78/EC: sole purpose of laying down, in that field, a general framework (legal remedies, burden of proof, affirmative action etc., se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ngo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5, par. 76) for combating such discrimination (see Art. 1) (par. 38, 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prohibition of discrimination on the basis of sexual orientation i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 principle of Union la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mplicit in par. 59; explicit for age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ngo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05, par. 75 (“thus”!) &amp;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ücükdevec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10, par. 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70720"/>
              <a:ext cx="9144000" cy="287280"/>
            </a:xfrm>
            <a:prstGeom prst="rect">
              <a:avLst/>
            </a:prstGeom>
            <a:gradFill rotWithShape="0">
              <a:gsLst>
                <a:gs pos="0">
                  <a:srgbClr val="7aabf2">
                    <a:alpha val="77254"/>
                  </a:srgbClr>
                </a:gs>
                <a:gs pos="100000">
                  <a:srgbClr val="d3e3f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393f9"/>
                  </a:solidFill>
                  <a:latin typeface="Arial"/>
                </a:rPr>
                <a:t>www.graupner.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as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adao Maru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eaction of German High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as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Jürgen Rö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362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&gt; no need to wait for consistency of national law with Europan law (par. 6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ight to equal treatment can be claimed by an individual and courts have to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et aside any conflicting provision of national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par. 64; Mangold 2005, par. 7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 u="sng">
                <a:solidFill>
                  <a:srgbClr val="000000"/>
                </a:solidFill>
                <a:uFillTx/>
                <a:latin typeface="Arial"/>
              </a:rPr>
              <a:t>But on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if the discrimination at issue falls within the scope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Union l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 discrimination falls within the scope of Union law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expiry of transposition-period for Dir 2000/78/EC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(Art. 13 EC, now Art. 19 TFEU, and the general principle alone do not suffice) (par. 61, 62;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Bartsch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2008, par. 16, 18;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Kücükdeveci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2010, par. 2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oluntary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ial or general)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f  Directive 2000/78</a:t>
            </a: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 (before the end of transposition-period) (par. 63; </a:t>
            </a:r>
            <a:r>
              <a:rPr b="0" i="1" lang="de-AT" sz="2600" spc="-1" strike="noStrike">
                <a:solidFill>
                  <a:srgbClr val="000000"/>
                </a:solidFill>
                <a:latin typeface="Arial"/>
              </a:rPr>
              <a:t>Bartsch </a:t>
            </a: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2008, par.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new discriminatory regulations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after entry into force of the Directi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ven before expiry of transposition-perio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tes must refrain from any measures seriously compromising the result prescribed by a directive (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Mangold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, par. 67; 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Inter-Environnement Walloni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, par. 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d) taking place in an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rea withi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of application of Union law (</a:t>
            </a: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Mangold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2005, par. 51, 64, 75, „fixed-term work“); also outside employment (but then no framework like Dir 2000/78/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de-AT" sz="3200" spc="-1" strike="noStrike">
                <a:solidFill>
                  <a:srgbClr val="000000"/>
                </a:solidFill>
                <a:latin typeface="Arial"/>
              </a:rPr>
              <a:t>Rö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-&gt; only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-&gt; Union law entitles Mr. Römer to claim equality (and compensation) (only) bac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3 Dec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CJ in </a:t>
            </a:r>
            <a:r>
              <a:rPr b="0" i="1" lang="de-AT" sz="3200" spc="-1" strike="noStrike">
                <a:solidFill>
                  <a:srgbClr val="000000"/>
                </a:solidFill>
                <a:latin typeface="Arial"/>
              </a:rPr>
              <a:t>Rö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-&gt; silent on </a:t>
            </a: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indirect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-&gt; issue for future ju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gradFill rotWithShape="0">
            <a:gsLst>
              <a:gs pos="0">
                <a:srgbClr val="2121ff">
                  <a:alpha val="46274"/>
                </a:srgbClr>
              </a:gs>
              <a:gs pos="100000">
                <a:srgbClr val="bbe0e3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en-US" sz="3600" spc="-1" strike="noStrike">
                <a:solidFill>
                  <a:srgbClr val="00004c"/>
                </a:solidFill>
                <a:latin typeface="Arial"/>
              </a:rPr>
              <a:t>graupn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8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8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II.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dao Maruko geg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sorgungsanstalt der deutschen Bühnen (VddB) </a:t>
            </a:r>
            <a:br>
              <a:rPr sz="24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C-267/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ans Hettinger: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costume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45 years member of Vd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45 years paid fees to VddB as hi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heterosexual collea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13 years of partnership with Mr. Tada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 2001 registered their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died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ddB: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-&gt; survivors benefits only to married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no pension to Tadao Maru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adao Maruko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-&gt; legal 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ayrVG München M 3 K 05.15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ayrVG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ferral for a preliminary r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direct discrimin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discrimination justified by recital 22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cital 22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Directive is without prejudic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laws on marital statu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enefits dependent there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VddB &amp; U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-&gt; unequal treatment of married couples an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istered couples are outside of the scope of t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rective (due to recital 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adao Maruk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 discrimination (as referral to pregnancy is direct discrimination on the ground of sex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eeds not be decided, as in an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Indirect discrimin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not only in case of RP equivalent to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as long as marriage is forbidden for same-sex cou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on of marriage always is just „apparently neutral“ and puts homosexuals „at a particular disadvantage” (Art. 2 par. 2 lit.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y is made contingent upon a condition which same-sex couples never ever can ful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as in K.B. (2004) (opposite-sex couples with post-operative transgender partner were not allowed to marr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dition of marriage must be dropped for same-sex couples (as long as marriage is not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European Commission &amp;</a:t>
            </a:r>
            <a:br>
              <a:rPr sz="2600"/>
            </a:br>
            <a:r>
              <a:rPr b="0" i="1" lang="de-DE" sz="2600" spc="-1" strike="noStrike">
                <a:solidFill>
                  <a:srgbClr val="000000"/>
                </a:solidFill>
                <a:latin typeface="Arial"/>
              </a:rPr>
              <a:t>Advocate General Dámaso Ruiz-Jarabo Colom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763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280" y="155736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no direct discrimination (no referral to sexual orient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indirect discrimination &amp; no justification vi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but only: if RP is marriage-equivalent („substantially the same effects“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&gt; Effect: little discrimination (in MS with marriage-equivalent RP) outlawed, but big discrimination (in MS without such RP) not (despite same unequal treatm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 of comparative paramete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arriage-RP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opposite-sex couples vs. same-sex coupl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he Judgment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nd Chamber, 01.04.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cital 2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ital 22 cannot affect the application of the Directive (par. 59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rect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f registered partners „in comparable situation“ as married partners (par. 70-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. 2 par. 1 lit. a Dir 2000/78/E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 discrimination …where one person is treated less favoura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another … in a comparable situation,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Justification only possible under Art. 4 Abs. 1 („genuine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determining occupational requirement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„comparable situation“</a:t>
            </a: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) form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ation is task of the national court (par. 72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) in sub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„Comparability“, not „Identity“ (par.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 far as concerns that survivor’s benef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 (par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individual-concrete comparison with the „situation comparable to that of a spouse who is entitled to the survivor’s benefit provided for under the occupational pension scheme managed by the VddB.“ (par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&gt; criteria of the national court (par. 62, 69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formally constituted fo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ion of mutual support and as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ECJ does not object to these criteria and explicitly say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combined provisions of Articles 1 and 2 of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tive 2000/78 preclude legislation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uch a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that at issue in the main proceeding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…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mphasis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&gt; Compare to the judgment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laci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00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hibition on any discrimination on grounds of age … must be interpreted as not precluding national legislatio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ch as that at issue in the main procee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[follow criteria which the national court has to apply in determining compatibility with community law]” (emphasis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0:36:17Z</dcterms:created>
  <dc:creator>HG</dc:creator>
  <dc:description/>
  <dc:language>en-US</dc:language>
  <cp:lastModifiedBy>Ihr Benutzername</cp:lastModifiedBy>
  <dcterms:modified xsi:type="dcterms:W3CDTF">2011-05-23T21:59:25Z</dcterms:modified>
  <cp:revision>135</cp:revision>
  <dc:subject/>
  <dc:title>Folie 1</dc:title>
</cp:coreProperties>
</file>