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A50-D85E-4781-B2D4-87B918DD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735-5ECF-4B93-8699-B3844903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617-2723-4CCE-A6CE-D3D4C587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E78-3B9B-47E3-805A-56F5EC0C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476-7270-4940-BEB8-345691E8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4A7-4273-4452-A93C-D0B5914A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16B-0DB3-4530-AE58-421D1FB6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5C6-EF0E-43EB-A8CA-FB8A0BC2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100-2090-4CE2-92CE-00EABC73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BD6-8AAD-417D-8731-D9E9D296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61E-B6EE-4BAE-AB5C-BADBFD2D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691-05D1-4493-8923-85656705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3045-4236-4BAC-A423-F6E5DE1215BA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33360"/>
            <a:ext cx="9144000" cy="6858000"/>
          </a:xfrm>
          <a:prstGeom prst="rect">
            <a:avLst/>
          </a:prstGeom>
          <a:blipFill rotWithShape="0">
            <a:blip r:embed="rId3">
              <a:alphaModFix amt="1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65720"/>
            <a:ext cx="9144000" cy="287640"/>
          </a:xfrm>
          <a:prstGeom prst="rect">
            <a:avLst/>
          </a:prstGeom>
          <a:gradFill rotWithShape="0">
            <a:gsLst>
              <a:gs pos="0">
                <a:srgbClr val="7aabf2">
                  <a:alpha val="77254"/>
                </a:srgbClr>
              </a:gs>
              <a:gs pos="100000">
                <a:srgbClr val="d3e3f9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715920"/>
            <a:ext cx="914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The Case Law of the European Court of Human Rights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640" y="4581360"/>
            <a:ext cx="7129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GO TO COURT!’ STRATEGIC LITIGATION OF LGBT RIGHTS IN HUNGAR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áttér Társa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dapest, October 17, 20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184464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mut Graup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2924280"/>
            <a:ext cx="8532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66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7393f9">
                      <a:alpha val="50000"/>
                    </a:srgbClr>
                  </a:outerShdw>
                </a:effectLst>
                <a:latin typeface="Aunchanted Expanded Bold"/>
              </a:rPr>
              <a:t>Sexual Orientation &amp; Gender Identit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000066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7393f9">
                    <a:alpha val="50000"/>
                  </a:srgbClr>
                </a:outerShdw>
              </a:effectLst>
              <a:latin typeface="Aunchanted Expanded Bold"/>
              <a:ea typeface="Aunchanted Expanded Bold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9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graupner.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9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6"/>
                </a:solidFill>
                <a:latin typeface="Arial"/>
              </a:rPr>
              <a:t>Employ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quiries into sexual orientation and dismissal on the basis of homosexuality violate Art. 8 ECH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also in the armed forces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stig-Prean &amp; Beckett vs. U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99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ith &amp; Grady vs. U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99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erkins and R v UK 200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ck, Copp and Bazzeley v U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200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6"/>
                </a:solidFill>
                <a:latin typeface="Arial"/>
              </a:rPr>
              <a:t>Right to Assemb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 of Gay-Pride-Parades violates Art. 11 ECH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y measures interfering with the freedom of assembly and expression other than in cases of incitement to violence or rejection of democratic principles do a disservice to democracy and often even endanger 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ever shocking and unaccept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ertain views or words used may appear to the 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erring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ubstantive righ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 homosexual persons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amentally differ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recognising thei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ight to campaig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such right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Baczkowski vs. P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07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ekseyev vs. R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0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915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6"/>
                </a:solidFill>
                <a:latin typeface="Arial"/>
              </a:rPr>
              <a:t>Partnershi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ous treatment of same-sex couples vs. opposite-sex couples requir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ticularly serious reas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ust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s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achieve a legitimitate aim (Art. 14 ECR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rner vs. Austr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ozak vs. 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.B. &amp; J.S. vs. 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.M. vs. U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: UN-Human-Rights-Committee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oung vs. Austral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3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. vs. Colomb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6"/>
                </a:solidFill>
                <a:latin typeface="Arial"/>
              </a:rPr>
              <a:t>Pare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dvantageous relating to sexual orientation in decision-making violates Art. 14 EC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algueiro da Silva Mouta vs. Portug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 on single-adoption violates Art. 14 EC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B. vs. F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 on medically assisted procreation for lesbian couples violates Art.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- Austrian Supreme Court 2011 (3 Ob 147/10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76"/>
                </a:solidFill>
                <a:latin typeface="Arial"/>
              </a:rPr>
              <a:t>Marri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rt. 12 EMR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ts the right to marry a partner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e biological s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post-operative transsexual with a member of his/her former s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jo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ocial chang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the institution of marriage since the adoption of the Con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matic changes brought about by developments i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dicine and scienc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jected as artificial the argument that post-operative transsexuals had not been deprived of the right to marry because they remained able to marry a person of their former opposite sex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915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ican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ived as a woman and would only wish to marry a m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ut had no possibility of doing so and could therefore claim that the very essence of her right to marry had been infri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ability of any couple to conceive or be a parent to a child cannot be regard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er 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 removing their right to marry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icle 9 of the Charter of Fundamental Rights of the European Union departs, no doubt deliberately, from the wording of Article 12 of the Convention in removing the reference to men and wo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odwin vs. U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, I. vs. U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Schalk &amp; Kopf vs. 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(2010)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tHR still hesistant to fully apply this line of argument also in marriage cases of (fully) same-sex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habiting same-sex couple -&gt;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‘family life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“just as the relationship of a different-sex couple”) (confirme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.B. &amp; J.S. vs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ght to mar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nshrined in Art. 12 of the Convention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ble to same-sex coup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only 6 out of 47 Convention States had allowed same-sex-marri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“as matters stand”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ame-marriag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(ye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 of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ery ess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e right to marry (Art. 1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member-states may prohibit marriage by same-sex couples (under par. 2 of Art. 12)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2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:3 maj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violation in introduction of registered partnership for same-sex couples as late as 1 January 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ssenting minority of three judg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 the failure (prior to 2010) to provide at least a marriage-comparable institute providing formal legal recognition of same-sex partnerships violated Art. 8, 14 ECHR.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2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100" spc="-1" strike="noStrike">
                <a:solidFill>
                  <a:srgbClr val="000076"/>
                </a:solidFill>
                <a:latin typeface="Arial"/>
              </a:rPr>
              <a:t>III. Gender Ident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ght to documents according to gender 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. v. Fra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ght to comprehensive legal recognition of sex change after gender reassignment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oodwín v. UK 2002, I v. UK 200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ght to gender reassignment surger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. v Lithuania 200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ght to (heterosexual) marriage with a person belonging to former s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oodwín v. UK 2002, I v. UK 200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nsion rights according to the new sex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rant v. UK 200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642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rden of proof for necessity of gender reassignment treatment (i.e. surgery) as a precondition for insurance covery is inproporti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an Kück v. German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aiting period of 2 years as a precondition for insurance covery of gender reassignment treatment (i.e. surgery) is inproporti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chlumpf v. 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vorce requirement inadmi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ustrian Constitutional Court (VfGH) 8 June2006, V 4/0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rgery requirement inadmi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ustrian Administrative Supreme Court (VwGH) 27.02.2009, 2008/17/0054; VwGH 15.09.2009, 2008/06/0032; VfGH 03.12.2009, B 1973/08; VwGH 17.02.2010, 2009/17/026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d outing by marriage certificates inadmissi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ustrian Administrative Supreme Court 29 Nov 2010, 2010/17/00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Arial"/>
              </a:rPr>
              <a:t>The right to gender identity and personal development is a fundamental aspect of the right to private lif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(EGMR: </a:t>
            </a:r>
            <a:r>
              <a:rPr b="0" i="1" lang="de-AT" sz="3200" spc="-1" strike="noStrike">
                <a:solidFill>
                  <a:srgbClr val="000000"/>
                </a:solidFill>
                <a:latin typeface="Arial"/>
              </a:rPr>
              <a:t>Van Kück v. Deutschland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2003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  <a:ea typeface="Arial"/>
              </a:rPr>
              <a:t>[par. 75],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a.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74124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3000" spc="-1" strike="noStrike">
              <a:solidFill>
                <a:srgbClr val="00007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42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787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l of Death Penalty for same-sex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Habsburg Empire (incl. Hungary) as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ate in the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bstituted by up to 3 months forced lab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8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iminalization of same-sex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rance as the first state in the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781360"/>
            <a:ext cx="9144000" cy="642600"/>
          </a:xfrm>
          <a:prstGeom prst="rect">
            <a:avLst/>
          </a:prstGeom>
          <a:gradFill rotWithShape="0">
            <a:gsLst>
              <a:gs pos="0">
                <a:srgbClr val="2121ff">
                  <a:alpha val="46274"/>
                </a:srgbClr>
              </a:gs>
              <a:gs pos="100000">
                <a:srgbClr val="bbe0e3">
                  <a:alpha val="2117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lang="en-US" sz="3600" spc="-1" strike="noStrike">
                <a:solidFill>
                  <a:srgbClr val="00004c"/>
                </a:solidFill>
                <a:latin typeface="Arial"/>
              </a:rPr>
              <a:t>graupn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5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-243000"/>
            <a:ext cx="9144000" cy="6859440"/>
            <a:chOff x="0" y="-243000"/>
            <a:chExt cx="9144000" cy="6859440"/>
          </a:xfrm>
        </p:grpSpPr>
        <p:sp>
          <p:nvSpPr>
            <p:cNvPr id="56" name=""/>
            <p:cNvSpPr/>
            <p:nvPr/>
          </p:nvSpPr>
          <p:spPr>
            <a:xfrm>
              <a:off x="0" y="-24300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6327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6248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76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26920" y="1268280"/>
            <a:ext cx="7620120" cy="4851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569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ery essence of the convention is respect for human dignity and freed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ion of personal autonomy is an important principle underlying the interpretation of the right to respect for private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xuality and sexual life are at the core of the fundamental right to protection of private life (Art. 8). State intervention interferes with this right; and such interferences are justified only if demonstrably necessary to avert damage from others 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pressing social need, proportionalit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rt. 8 protects self-determination as su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69228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76"/>
                </a:solidFill>
                <a:latin typeface="Arial"/>
              </a:rPr>
              <a:t>I. European Court of Human Rights: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7114680"/>
            <a:chOff x="0" y="0"/>
            <a:chExt cx="9144000" cy="7114680"/>
          </a:xfrm>
        </p:grpSpPr>
        <p:sp>
          <p:nvSpPr>
            <p:cNvPr id="68" name=""/>
            <p:cNvSpPr/>
            <p:nvPr/>
          </p:nvSpPr>
          <p:spPr>
            <a:xfrm>
              <a:off x="0" y="0"/>
              <a:ext cx="9144000" cy="711468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6816960"/>
              <a:ext cx="9144000" cy="29772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6734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titudes and moral convictions of a majority cannot justify interferences into the right to private life (or into other human righ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ompatible with the underlying values of the Convention if the exercise of Convention rights by a minority group were made conditional on its being accepted by the majority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422100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(Dudgeon vs. UK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1981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Norris vs. Ireland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1988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Modinos vs. Cypru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1993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Laskey, Brown &amp; Jaggard vs. UK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1997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Lustig-Prean &amp; Beckett vs. UK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1999;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Smith &amp; Grady vs. UK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1999;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A.D.T. vs. UK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000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Christine Goodwin vs. UK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002,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 I. vs. UK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002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Fretté vs. Franc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2002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L. &amp; V. v. Austria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003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S.L. v. Austria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003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Schüth v. Germany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2010;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Obst v.Germany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2010;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Alekseyev vs. RU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2010)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rimination on the basis of sexu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s unaccept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s as serious as discrimination on the ground of race, ethnic origin, religion and s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ifferentiation requires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particularly serious (convincing and weighty)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rea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rgin of appreciation is narro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istinctions must be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 necessary (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ot only suitable) to realise a legitimate ai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istinctions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solely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on the basis of sexual orient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-&gt; discrimin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Lustig-Prean &amp; Beckett vs. U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1999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mith &amp; Grady vs. U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9; Salgueir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 Silva Mouta vs. Portug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1999;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L. &amp; V. v. Austr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3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.L. v. Austr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3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.B. vs. Fra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08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ozak vs. PO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chalk &amp; Kop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s. 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.B. &amp; J.S. vs. 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J.M. vs. U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ekseyev vs. R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iyutin vs. R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74560" y="476280"/>
            <a:ext cx="8174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just negative rights to freedom from state inter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tive rights to (active) protection of these rights in relation to the state as well as in relation to other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igation of the state to act in case of interference with the right to self-determination and to personal development, including the right to establish and maintain relations with other human beings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(Zehnalová &amp; Zehnal vs. CZ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002;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Schüth v. Germany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2010;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Obst v.Germany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2010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3640" y="69192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6"/>
                </a:solidFill>
                <a:latin typeface="Arial"/>
              </a:rPr>
              <a:t>II. Sexu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6"/>
                </a:solidFill>
                <a:latin typeface="Arial"/>
              </a:rPr>
              <a:t>Criminal La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Total Bans violate  Art. 8 EC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udgeon vs. U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981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rris vs. Ire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988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inos vs. Cyp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: UN-Human-Rights-Committe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nen vs. Austral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Bans of (homo)sexual contacts between more than two    persons violate Art. 8 EC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.D.T. vs. U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 Higher age of consent violates Art. 8 and 14 EC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. &amp; V. vs. Aust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.L. vs. Aust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3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BB vs. U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2004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ditschka &amp;    Wilfling vs. Austr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. L. vs. Aust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5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omas Wolfmeyer vs. Aust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5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.G. &amp;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G.B. vs. Austri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200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.H. vs. Austria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351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) Repeal of higher age of consent is not enough: Victims must be rehabilitated and compensated, also if acqu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&amp; V. vs. Aust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3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.L. vs. Aust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3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ditschka &amp; Wilfling vs. Austr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. L. vs. Aust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5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omas Wolfmeyer vs. Aust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5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.G. &amp; G.B. vs. Aust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5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.H. vs. Austr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. L. vs. A 200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UR 5.000,-- compensation (plus costs and expenses) to an adolescent, who (between 14 and 18) was barred from entering into self-determined sexual relations with adult 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) Ban of (homosexual) pornography among adults and without unwanted confrontation of othe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. vs. 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2 (ECom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0:36:17Z</dcterms:created>
  <dc:creator>HG</dc:creator>
  <dc:description/>
  <dc:language>en-US</dc:language>
  <cp:lastModifiedBy>Ihr Benutzername</cp:lastModifiedBy>
  <dcterms:modified xsi:type="dcterms:W3CDTF">2011-10-15T21:47:20Z</dcterms:modified>
  <cp:revision>113</cp:revision>
  <dc:subject/>
  <dc:title>Folie 1</dc:title>
</cp:coreProperties>
</file>