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989-8BD5-4F86-BE44-1FDAE926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6051-FB53-49A3-BFFD-6A7C1DA2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D46-B592-45DB-A074-92A63149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EDB-1625-49FF-A95B-D8C0BD5B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7F6B-BD6F-4C63-9CF3-0C2B205A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F2C-3E71-4F5D-8F5F-89ABF1E7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0E26-1F10-40B0-B206-FD29745F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299-4439-4BF1-9AD4-04C414BC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E15-A83B-49ED-A47F-2213342F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71A-64C6-4258-A89F-8E1FE5DC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999-FC33-479A-9257-49E796C2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F06-51F0-4BDB-B6EA-3DE219CD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2F7F-8F60-4222-8FF8-95B9E7490C81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0" y="333360"/>
            <a:ext cx="9144000" cy="6858000"/>
          </a:xfrm>
          <a:prstGeom prst="rect">
            <a:avLst/>
          </a:prstGeom>
          <a:blipFill rotWithShape="0">
            <a:blip r:embed="rId2">
              <a:alphaModFix amt="1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6165720"/>
            <a:ext cx="9144000" cy="287640"/>
          </a:xfrm>
          <a:prstGeom prst="rect">
            <a:avLst/>
          </a:prstGeom>
          <a:gradFill rotWithShape="0">
            <a:gsLst>
              <a:gs pos="0">
                <a:srgbClr val="d4e4fb">
                  <a:alpha val="30196"/>
                </a:srgbClr>
              </a:gs>
              <a:gs pos="100000">
                <a:srgbClr val="7aabf2">
                  <a:alpha val="7725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762360"/>
            <a:ext cx="91440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"/>
              </a:rPr>
              <a:t>The Case Law of the European Court of Human Rights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06560" y="4437000"/>
            <a:ext cx="7129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ynote-Lecture -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xual Citizenship and Human Righ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hat Can the US Learn from the EU and European La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stin, November 22,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132000" y="144792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66"/>
                </a:solidFill>
                <a:latin typeface="Arial"/>
              </a:rPr>
              <a:t>Helmut Graup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14"/>
          <p:cNvSpPr txBox="1"/>
          <p:nvPr/>
        </p:nvSpPr>
        <p:spPr>
          <a:xfrm>
            <a:off x="611280" y="2276640"/>
            <a:ext cx="806436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000066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7393f9">
                      <a:alpha val="50000"/>
                    </a:srgbClr>
                  </a:outerShdw>
                </a:effectLst>
                <a:latin typeface="Aunchanted Expanded Bold"/>
              </a:rPr>
              <a:t>Sexual Orientat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000066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7393f9">
                    <a:alpha val="50000"/>
                  </a:srgbClr>
                </a:outerShdw>
              </a:effectLst>
              <a:latin typeface="Aunchanted Expanded Bold"/>
              <a:ea typeface="Aunchanted Expanded Bold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0" y="609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ww.graupner.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with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4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93" name="Rectangl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d4e4fb">
                    <a:alpha val="30196"/>
                  </a:srgbClr>
                </a:gs>
                <a:gs pos="100000">
                  <a:srgbClr val="7aabf2">
                    <a:alpha val="77254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351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) Repeal of higher age of consent is not enough: Victims must be rehabilitated and compensated, also if acqu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. &amp; V. vs. Aust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3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.L. vs. Aust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3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ditschka &amp; Wilfling vs. Austr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. L. vs. Aust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5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mas Wolfmeyer vs. Aust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5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.G. &amp; G.B. vs. Aust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.H. vs. Austr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. L. vs. 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UR 5.000,-- compensation (plus costs and expenses) to an adolescent, who (between 14 and 18) was barred from entering into self-determined sexual relations with adult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4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98" name="Rectangl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6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d4e4fb">
                    <a:alpha val="30196"/>
                  </a:srgbClr>
                </a:gs>
                <a:gs pos="100000">
                  <a:srgbClr val="7aabf2">
                    <a:alpha val="77254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351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) Entries in criminal records have to be de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 B. et. Al. vs. Aust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13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 Ban on (homosexual) pornography among adults and without unwanted confrontation of oth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S. vs. 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2 (EComH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5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03" name="Rectangle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d4e4fb">
                    <a:alpha val="30196"/>
                  </a:srgbClr>
                </a:gs>
                <a:gs pos="100000">
                  <a:srgbClr val="7aabf2">
                    <a:alpha val="77254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8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6"/>
                </a:solidFill>
                <a:latin typeface="Arial"/>
              </a:rPr>
              <a:t>Employ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quiries into sexual orientation and dismissal on the basis of homosexuality violate Art. 8 ECHR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also in the armed forces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ustig-Prean &amp; Beckett vs. U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99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mith &amp; Grady vs. U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99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erkins and R v UK 200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ck, Copp and Bazzeley v UK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200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d4e4fb">
                    <a:alpha val="30196"/>
                  </a:srgbClr>
                </a:gs>
                <a:gs pos="100000">
                  <a:srgbClr val="7aabf2">
                    <a:alpha val="77254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5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6"/>
                </a:solidFill>
                <a:latin typeface="Arial"/>
              </a:rPr>
              <a:t>Right to Assembl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n of Gay-Pride-Parades violates Art. 11 ECH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y measures interfering with the freedom of assembly and expression other than in cases of incitement to violence or rejection of democratic principles do a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isservice to democracy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d often even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ndange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t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however shocking and unacceptabl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certain views or words used may appear to the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ferring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ubstantive righ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on homosexual persons is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fundamentally differen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from recognising their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right to campaig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for such rights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Baczkowski vs. P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007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lekseyev vs. R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010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GenderDoc v Moldov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d4e4fb">
                    <a:alpha val="30196"/>
                  </a:srgbClr>
                </a:gs>
                <a:gs pos="100000">
                  <a:srgbClr val="7aabf2">
                    <a:alpha val="77254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5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25520" y="764640"/>
            <a:ext cx="829152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76"/>
                </a:solidFill>
                <a:latin typeface="Arial"/>
              </a:rPr>
              <a:t>Incitement to Hat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minal conviction for incitement to hatred on the basis of sexual orientation does not violate free spee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ejdeland vs. 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76"/>
                </a:solidFill>
                <a:latin typeface="Arial"/>
              </a:rPr>
              <a:t>Homophobic Viol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ght to effective protection from homophobic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.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al attention in investigatio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the homophobic motive of the cr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 vs. T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76"/>
                </a:solidFill>
                <a:latin typeface="Arial"/>
              </a:rPr>
              <a:t>Religiously motivated discrimi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edom of religion does not justify discrimination on the basis of sexual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weida et al vs. U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13 (solemnization of rp by civil servant; counselling of ss couples by a therapist employed in an institution with anti-discrimination poli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5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18" name="Rectangle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7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d4e4fb">
                    <a:alpha val="30196"/>
                  </a:srgbClr>
                </a:gs>
                <a:gs pos="100000">
                  <a:srgbClr val="7aabf2">
                    <a:alpha val="77254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8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25520" y="692280"/>
            <a:ext cx="829152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6"/>
                </a:solidFill>
                <a:latin typeface="Arial"/>
              </a:rPr>
              <a:t>Partnership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ous treatment of (unmarried) same-sex couples vs. (unmarried) opposite-sex couples requir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ticularly serious reas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ust b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cess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chieve a legitimitate aim (Art. 14 ECH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20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Karner vs. 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03;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Kozak vs. P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2010;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.B. &amp; J.S. vs. 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2010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J.M. vs. U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2010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 et. al. [GC] vs 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20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: UN-Human-Rights-Committee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oung vs. Austral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2003;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. vs. Colomb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5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23" name="Rectangle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7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d4e4fb">
                    <a:alpha val="30196"/>
                  </a:srgbClr>
                </a:gs>
                <a:gs pos="100000">
                  <a:srgbClr val="7aabf2">
                    <a:alpha val="77254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25520" y="379440"/>
            <a:ext cx="82915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6"/>
                </a:solidFill>
                <a:latin typeface="Arial"/>
              </a:rPr>
              <a:t>Parent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ous relating to sexual orientation in decision-making violates Art. 14 EC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lgueiro da Silva Mouta vs. Portug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 of single-adoption violates Art. 14 EC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B. vs. Fr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parent-adoption for (unmarried) opposite-sex couples but not for (unregistered) same-sex couples violates Art. 14 EC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et. al. [GC] vs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</a:rPr>
              <a:t>X et. al. v Austria 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[GC] </a:t>
            </a:r>
            <a:br>
              <a:rPr sz="4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9 Feb 2013 (10 :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ree (mother, step-mothe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d the chi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were directly affected by the difference in treatment and could claim to be victims of the alleged violation (par. 1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ree (mother, step-mothe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d the chi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were affect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 a fami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violation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Court found it appropriate to mak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oint a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respect of non-pecuniary damage (par. 1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ce of granting legal recognition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 fac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mily lif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it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ag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7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on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) (par. 145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rden of pro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necessity of a distinction based on sexual orientation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govern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ar. 1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just one way or one choi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t comes to leading one’s family or private life (par. 139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tection of the family in the traditional sense has to be balanced against the Convention rights of sexual minorities, with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gin of appreciation being narr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ar. 1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evid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e Court that it would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tri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child to be brought up by a same-sex couple or to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legal mothers and two legal fat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ar. 142, 144, 146, 1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o th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issenting minority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the three applicants (two women with child) enjoy the protection of family life (par.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the child received a proper upbringing from his mother and her partner (par. 2 &amp;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31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d4e4fb">
                    <a:alpha val="30196"/>
                  </a:srgbClr>
                </a:gs>
                <a:gs pos="100000">
                  <a:srgbClr val="7aabf2">
                    <a:alpha val="77254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5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76"/>
                </a:solidFill>
                <a:latin typeface="Arial"/>
              </a:rPr>
              <a:t>Marriag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rt. 12 EMR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ts the right to marry a partner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me biological s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post-operative transsexual with a member of his/her former s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jor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ocial chang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the institution of marriage since the adoption of the Conv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matic changes brought about by developments i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dicine and scienc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jected as artificial the argument that post-operative transsexuals had not been deprived of the right to marry because they remained able to marry a person of their former opposite sex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5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50" name="Rectangle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d4e4fb">
                    <a:alpha val="30196"/>
                  </a:srgbClr>
                </a:gs>
                <a:gs pos="100000">
                  <a:srgbClr val="7aabf2">
                    <a:alpha val="77254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8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86425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787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l of Death Penalty for same-sex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Austrian Empire as the first state i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bstituted by up to 3 months forced labo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8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iminalization of same-sex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rance as the first state in the wor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36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d4e4fb">
                    <a:alpha val="30196"/>
                  </a:srgbClr>
                </a:gs>
                <a:gs pos="100000">
                  <a:srgbClr val="7aabf2">
                    <a:alpha val="77254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915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ican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ived as a woman and would only wish to marry a m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ut had no possibility of doing so and could therefore claim that the very essence of her right to marry had been infri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ability of any couple to conceive or be a parent to a child cannot be regard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er 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 removing their right to marry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icle 9 of the Charter of Fundamental Rights of the European Union departs, no doubt deliberately, from the wording of Article 12 of the Convention in removing the reference to men and wom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oodwin vs. UK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, I. vs. UK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d4e4fb">
                    <a:alpha val="30196"/>
                  </a:srgbClr>
                </a:gs>
                <a:gs pos="100000">
                  <a:srgbClr val="7aabf2">
                    <a:alpha val="77254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25520" y="549000"/>
            <a:ext cx="829152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Schalk &amp; Kopf vs. 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(2010)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tHR still hesistant to fully apply this line of argument also in marriage cases of (fully) same-sex 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habiting same-sex couple -&gt;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‘family life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“just as the relationship of a different-sex couple”) (confirmed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.B. &amp; J.S. vs 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10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et. al. [GC] vs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ght to marr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nshrined in Art. 12 of the Convention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ble to same-sex coup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 only 6 out of 47 Convention States had allowed same-sex-marri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“as matters stand”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ame-marriag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t (ye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rt of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ery ess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the right to marry (Art. 1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member-states may prohibit marriage by same-sex couples (under part two of Art. 12)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ight to Ma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t. 12 ECH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and women of marriageable age have the right to marry and to found a family, according to the national laws governing the exercise of this righ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47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d4e4fb">
                    <a:alpha val="30196"/>
                  </a:srgbClr>
                </a:gs>
                <a:gs pos="100000">
                  <a:srgbClr val="7aabf2">
                    <a:alpha val="77254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5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25520" y="404640"/>
            <a:ext cx="82915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4:3 maj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violation in introduction of registered partnership for same-sex couples as late as 1 January 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ssenting minority of three judg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 the failure (prior to 2010) to provide at least a marriage-comparable institute providing formal legal recognition of same-sex partnerships violated Art. 8, 14 ECHR.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52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d4e4fb">
                    <a:alpha val="30196"/>
                  </a:srgbClr>
                </a:gs>
                <a:gs pos="100000">
                  <a:srgbClr val="7aabf2">
                    <a:alpha val="77254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640" y="609480"/>
            <a:ext cx="829152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allianatos et. al. v GR [GC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 Nov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triction of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egistered partnership (civil union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opposite-sex couples only (excluding same-sex coupl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&gt; violates Art. 14 ECHR (16: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&gt; ss couples cannot ma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rticular intere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a civil union as sole basis to have relationship recog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&gt; only 2 of 19 member-states exclude ss couples from r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&gt; no convincing and weighty reasons capable of justifying the exclusion of ss cou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8"/>
          <p:cNvSpPr/>
          <p:nvPr/>
        </p:nvSpPr>
        <p:spPr>
          <a:xfrm>
            <a:off x="0" y="2781360"/>
            <a:ext cx="9144000" cy="642600"/>
          </a:xfrm>
          <a:prstGeom prst="rect">
            <a:avLst/>
          </a:prstGeom>
          <a:gradFill rotWithShape="0">
            <a:gsLst>
              <a:gs pos="0">
                <a:srgbClr val="bbe0e3">
                  <a:alpha val="21176"/>
                </a:srgbClr>
              </a:gs>
              <a:gs pos="100000">
                <a:srgbClr val="2121ff">
                  <a:alpha val="4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1" lang="de-AT" sz="3600" spc="-1" strike="noStrike">
                <a:solidFill>
                  <a:srgbClr val="00004c"/>
                </a:solidFill>
                <a:latin typeface="Arial"/>
              </a:rPr>
              <a:t>graupner</a:t>
            </a:r>
            <a:r>
              <a:rPr b="1" lang="de-AT" sz="3600" spc="-1" strike="noStrike">
                <a:solidFill>
                  <a:srgbClr val="000000"/>
                </a:solidFill>
                <a:latin typeface="Arial"/>
              </a:rPr>
              <a:t>.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60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1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6"/>
          <p:cNvGrpSpPr/>
          <p:nvPr/>
        </p:nvGrpSpPr>
        <p:grpSpPr>
          <a:xfrm>
            <a:off x="0" y="-243000"/>
            <a:ext cx="9144000" cy="6859440"/>
            <a:chOff x="0" y="-243000"/>
            <a:chExt cx="9144000" cy="6859440"/>
          </a:xfrm>
        </p:grpSpPr>
        <p:sp>
          <p:nvSpPr>
            <p:cNvPr id="55" name="Rectangle 7"/>
            <p:cNvSpPr/>
            <p:nvPr/>
          </p:nvSpPr>
          <p:spPr>
            <a:xfrm>
              <a:off x="0" y="-243000"/>
              <a:ext cx="9144000" cy="6858000"/>
            </a:xfrm>
            <a:prstGeom prst="rect">
              <a:avLst/>
            </a:prstGeom>
            <a:blipFill rotWithShape="0">
              <a:blip r:embed="rId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0" y="6327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d4e4fb">
                    <a:alpha val="30196"/>
                  </a:srgbClr>
                </a:gs>
                <a:gs pos="100000">
                  <a:srgbClr val="7aabf2">
                    <a:alpha val="77254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9"/>
            <p:cNvSpPr/>
            <p:nvPr/>
          </p:nvSpPr>
          <p:spPr>
            <a:xfrm>
              <a:off x="0" y="6248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76"/>
                </a:solidFill>
                <a:latin typeface="Arial"/>
              </a:rPr>
              <a:t>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620120" cy="4851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d4e4fb">
                    <a:alpha val="30196"/>
                  </a:srgbClr>
                </a:gs>
                <a:gs pos="100000">
                  <a:srgbClr val="7aabf2">
                    <a:alpha val="77254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50560" y="2349360"/>
            <a:ext cx="8569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ery essence of the convention is respect for human dignity and freed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ion of personal autonomy is an important principle underlying the interpretation of the right to respect for private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xuality and sexual life are at the core of the fundamental right to protection of private life. State intervention interferes with this right; and such interferences are justified only if demonstrably necessary to avert damage from others (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pressing social need, proportionalit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49280" y="121428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76"/>
                </a:solidFill>
                <a:latin typeface="Arial"/>
              </a:rPr>
              <a:t>European Court of Human Rights: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0"/>
            <a:ext cx="9144000" cy="7114680"/>
            <a:chOff x="0" y="0"/>
            <a:chExt cx="9144000" cy="7114680"/>
          </a:xfrm>
        </p:grpSpPr>
        <p:sp>
          <p:nvSpPr>
            <p:cNvPr id="67" name="Rectangle 3"/>
            <p:cNvSpPr/>
            <p:nvPr/>
          </p:nvSpPr>
          <p:spPr>
            <a:xfrm>
              <a:off x="0" y="0"/>
              <a:ext cx="9144000" cy="7114680"/>
            </a:xfrm>
            <a:prstGeom prst="rect">
              <a:avLst/>
            </a:prstGeom>
            <a:blipFill rotWithShape="0">
              <a:blip r:embed="rId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0" y="6816960"/>
              <a:ext cx="9144000" cy="297720"/>
            </a:xfrm>
            <a:prstGeom prst="rect">
              <a:avLst/>
            </a:prstGeom>
            <a:gradFill rotWithShape="0">
              <a:gsLst>
                <a:gs pos="0">
                  <a:srgbClr val="d4e4fb">
                    <a:alpha val="30196"/>
                  </a:srgbClr>
                </a:gs>
                <a:gs pos="100000">
                  <a:srgbClr val="7aabf2">
                    <a:alpha val="77254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5"/>
            <p:cNvSpPr/>
            <p:nvPr/>
          </p:nvSpPr>
          <p:spPr>
            <a:xfrm>
              <a:off x="0" y="6734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569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ttitudes and moral convictions of a majority cannot justify interferences into the right to private life (or into other human righ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ompatible with the underlying values of the Convention if the exercise of Convention rights by a minority group were made conditional on its being accepted by the majority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79280" y="4221000"/>
            <a:ext cx="871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(Dudgeon vs. UK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1981,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Norris vs. Ireland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1988,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Modinos vs. Cypru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1993,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Laskey, Brown &amp; Jaggard vs. UK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1997,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Lustig-Prean &amp; Beckett vs. UK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1999;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Smith &amp; Grady vs. UK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1999;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A.D.T. vs. UK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000,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Christine Goodwin vs. UK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002,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 I. vs. UK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002,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Fretté vs. France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2002,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L. &amp; V. v. Austria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003,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S.L. v. Austria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003,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Alekseyev vs. RU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2010)</a:t>
            </a: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73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4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d4e4fb">
                    <a:alpha val="30196"/>
                  </a:srgbClr>
                </a:gs>
                <a:gs pos="100000">
                  <a:srgbClr val="7aabf2">
                    <a:alpha val="77254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crimination on the basis of sexu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s unaccept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s as serious as discrimination on the ground of race, ethnic origin, religion and se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ifferentiation requires 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</a:rPr>
              <a:t>particularly serious (convincing and weighty)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rea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rgin of appreciation is narro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istinctions must be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</a:rPr>
              <a:t> necessary (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ot only suitable) to realise a legitimate ai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istinctions </a:t>
            </a:r>
            <a:r>
              <a:rPr b="0" i="1" lang="en-GB" sz="2500" spc="-1" strike="noStrike">
                <a:solidFill>
                  <a:srgbClr val="000000"/>
                </a:solidFill>
                <a:latin typeface="Arial"/>
              </a:rPr>
              <a:t>solely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on the basis of sexual orient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-&gt; discrimin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Lustig-Prean &amp; Beckett vs. U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1999;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mith &amp; Grady vs. U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9; Salgueir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a Silva Mouta vs. Portug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1999;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L. &amp; V. v. Austr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3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.L. v. Austr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3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.B. vs. Fra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08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ozak vs. PO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10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chalk &amp; Kop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s. 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10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.B. &amp; J.S. vs. 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10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J.M. vs. U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10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ekseyev vs. R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10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. et. al v 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GC] 2013;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allianatos v. G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GC]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78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4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d4e4fb">
                    <a:alpha val="30196"/>
                  </a:srgbClr>
                </a:gs>
                <a:gs pos="100000">
                  <a:srgbClr val="7aabf2">
                    <a:alpha val="77254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5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74200" y="692280"/>
            <a:ext cx="831852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just negative rights to freedom from state interv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itive rights to (active) protection of these rights in relation to the state as well as in relation to other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ligation of the state to act in case of interference with the right to personal development and the right to establish and maintain relations with other human beings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(Zehnalová &amp; Zehnal vs. CZ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83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d4e4fb">
                    <a:alpha val="30196"/>
                  </a:srgbClr>
                </a:gs>
                <a:gs pos="100000">
                  <a:srgbClr val="7aabf2">
                    <a:alpha val="77254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8"/>
          <p:cNvSpPr/>
          <p:nvPr/>
        </p:nvSpPr>
        <p:spPr>
          <a:xfrm>
            <a:off x="466560" y="836640"/>
            <a:ext cx="820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96760" indent="-896760">
              <a:lnSpc>
                <a:spcPct val="100000"/>
              </a:lnSpc>
              <a:buClr>
                <a:srgbClr val="000000"/>
              </a:buClr>
              <a:buFont typeface="Arial"/>
              <a:buAutoNum type="arabicPlain" startAt="20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admissible to base disadvantageous treatment on human rights volations having occurred in the p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89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regardless of complaint back those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89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regardless of recognition of the violation back those day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89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limmenos v. Gree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000;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.B. et. al. vs 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1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89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89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Member states have actively remove negative effects materializing today as the result of historical attitudes which today are recognized as to be in violation of human righ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6760" indent="-89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essels-Bergervoet vs. N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002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.B. et. al. vs 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1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7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88" name="Rectangl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d4e4fb">
                    <a:alpha val="30196"/>
                  </a:srgbClr>
                </a:gs>
                <a:gs pos="100000">
                  <a:srgbClr val="7aabf2">
                    <a:alpha val="77254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6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3640" y="69192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6"/>
                </a:solidFill>
                <a:latin typeface="Arial"/>
              </a:rPr>
              <a:t>Criminal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Total Bans violate  Art. 8 EC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dgeon vs. U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981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rris vs. Ire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988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dinos vs. Cypr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: UN-Human-Rights-Committee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nen vs. Austr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Bans of (homo)sexual contacts between more than two    persons violate Art. 8 EC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.D.T. vs. U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 Higher age of consent violates Art. 8 and 14 EC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. &amp; V. vs. Aust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3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.L. vs. Aust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3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B vs. U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2004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ditschka &amp;    Wilfling vs. Austr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4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. L. vs. Aust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5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omas Wolfmeyer vs. Aust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5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.G. &amp;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G.B. vs. Austri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2005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.H. vs. Austria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2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10:36:17Z</dcterms:created>
  <dc:creator>HG</dc:creator>
  <dc:description/>
  <dc:language>en-US</dc:language>
  <cp:lastModifiedBy>RA Dr. Helmut Graupner</cp:lastModifiedBy>
  <dcterms:modified xsi:type="dcterms:W3CDTF">2013-11-22T18:19:21Z</dcterms:modified>
  <cp:revision>150</cp:revision>
  <dc:subject/>
  <dc:title>Folie 1</dc:title>
</cp:coreProperties>
</file>