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6BCB-BAD4-48A6-9EBE-FCBCD4F61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9042-5EB7-4DAE-90C9-93F32BA2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6349-FFC3-4990-B1EE-883A0EC61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F0CF-9562-406D-BD20-18ACBD91D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D936-38D8-4DC9-8C4D-93AC8DA2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BA32-58C8-4E29-992A-29883F1B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B77F-D02D-45C2-B7CC-82502DEF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4CBA-B38A-4229-A22F-A1227767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8C5C-2F4C-4F7A-A799-97A17A37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50C7-7D9A-4496-AC29-B9018701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40EF-725F-477D-8FF9-D5D5CEEC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1910-C9CB-4AEB-BE17-C2F89EE0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74DB-4DB4-48E3-B632-78D22F7C9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1918440"/>
            <a:ext cx="8381880" cy="28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993300"/>
                </a:solidFill>
                <a:latin typeface="Verdana"/>
              </a:rPr>
              <a:t>Council of Europe</a:t>
            </a:r>
            <a:br>
              <a:rPr sz="6000"/>
            </a:br>
            <a:r>
              <a:rPr b="1" lang="fr-FR" sz="6000" spc="-1" strike="noStrike">
                <a:solidFill>
                  <a:srgbClr val="993300"/>
                </a:solidFill>
                <a:latin typeface="Verdana"/>
              </a:rPr>
              <a:t>Commissioner</a:t>
            </a:r>
            <a:br>
              <a:rPr sz="6000"/>
            </a:br>
            <a:r>
              <a:rPr b="1" lang="fr-FR" sz="6000" spc="-1" strike="noStrike">
                <a:solidFill>
                  <a:srgbClr val="993300"/>
                </a:solidFill>
                <a:latin typeface="Verdana"/>
              </a:rPr>
              <a:t>for Human Righ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52578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473d33"/>
                </a:solidFill>
                <a:latin typeface="Verdana"/>
              </a:rPr>
              <a:t>www.commissionner.coe.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80880"/>
            <a:ext cx="784872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Verdana"/>
              </a:rPr>
              <a:t>Contact detai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1600200"/>
            <a:ext cx="7696080" cy="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1989000"/>
            <a:ext cx="68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99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565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1916280"/>
            <a:ext cx="7561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Times New Roman"/>
              </a:rPr>
              <a:t>Office of the Commissioner for Human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Times New Roman"/>
              </a:rPr>
              <a:t>F-67075 Strasbourg Ce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Times New Roman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Times New Roman"/>
              </a:rPr>
              <a:t>dennis.van-der-veur@coe.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Times New Roman"/>
              </a:rPr>
              <a:t>www.commissioner.coe.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473d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473d33"/>
                </a:solidFill>
                <a:latin typeface="Verdana"/>
              </a:rPr>
              <a:t>Independent and impartia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473d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473d33"/>
                </a:solidFill>
                <a:latin typeface="Verdana"/>
              </a:rPr>
              <a:t>Non-judicia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473d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473d33"/>
                </a:solidFill>
                <a:latin typeface="Verdana"/>
              </a:rPr>
              <a:t>Furthering the Council of Europe’s institutional framework for the safeguard and promotion of Human Rights</a:t>
            </a:r>
            <a:r>
              <a:rPr b="0" lang="fr-FR" sz="2600" spc="-1" strike="noStrike">
                <a:solidFill>
                  <a:srgbClr val="62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838080"/>
            <a:ext cx="746748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990000"/>
                </a:solidFill>
                <a:latin typeface="Verdana"/>
              </a:rPr>
              <a:t>The Commission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600200"/>
            <a:ext cx="7696080" cy="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473d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473d33"/>
                </a:solidFill>
                <a:latin typeface="Verdana"/>
              </a:rPr>
              <a:t>Elected by the Parliamentary Assembly</a:t>
            </a:r>
            <a:r>
              <a:rPr b="0" lang="es-ES" sz="3000" spc="-1" strike="noStrike">
                <a:solidFill>
                  <a:srgbClr val="473d33"/>
                </a:solidFill>
                <a:latin typeface="Verdana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473d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73d33"/>
                </a:solidFill>
                <a:latin typeface="Verdana"/>
              </a:rPr>
              <a:t>Commissioner reports to CM and PACE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473d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473d33"/>
                </a:solidFill>
                <a:latin typeface="Verdana"/>
              </a:rPr>
              <a:t>Elected in 1999, Mr. Alvaro Gil-Robles </a:t>
            </a:r>
            <a:r>
              <a:rPr b="0" lang="en-GB" sz="3000" spc="-1" strike="noStrike">
                <a:solidFill>
                  <a:srgbClr val="473d33"/>
                </a:solidFill>
                <a:latin typeface="Verdana"/>
              </a:rPr>
              <a:t>wa</a:t>
            </a:r>
            <a:r>
              <a:rPr b="0" sz="3000" spc="-1" strike="noStrike">
                <a:solidFill>
                  <a:srgbClr val="473d33"/>
                </a:solidFill>
                <a:latin typeface="Verdana"/>
              </a:rPr>
              <a:t>s the first Commissioner</a:t>
            </a:r>
            <a:r>
              <a:rPr b="0" lang="en-GB" sz="3000" spc="-1" strike="noStrike">
                <a:solidFill>
                  <a:srgbClr val="473d33"/>
                </a:solidFill>
                <a:latin typeface="Verdana"/>
              </a:rPr>
              <a:t>; Mr. Thomas Hammarberg took over in 2006</a:t>
            </a:r>
            <a:r>
              <a:rPr b="0" sz="3000" spc="-1" strike="noStrike">
                <a:solidFill>
                  <a:srgbClr val="473d33"/>
                </a:solidFill>
                <a:latin typeface="Verdana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838080"/>
            <a:ext cx="79246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Verdana"/>
              </a:rPr>
              <a:t>Democratically Elec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600200"/>
            <a:ext cx="7696080" cy="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 fontScale="96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473d33"/>
                </a:solidFill>
                <a:latin typeface="Verdana"/>
              </a:rPr>
              <a:t>Resolution (99)50 on the Council of Europe Commissioner for</a:t>
            </a:r>
            <a:r>
              <a:rPr b="0" lang="fr-FR" sz="2000" spc="-1" strike="noStrike">
                <a:solidFill>
                  <a:srgbClr val="473d33"/>
                </a:solidFill>
                <a:latin typeface="Verdana"/>
              </a:rPr>
              <a:t> </a:t>
            </a:r>
            <a:r>
              <a:rPr b="0" sz="2000" spc="-1" strike="noStrike">
                <a:solidFill>
                  <a:srgbClr val="473d33"/>
                </a:solidFill>
                <a:latin typeface="Verdana"/>
              </a:rPr>
              <a:t>Human Rights</a:t>
            </a:r>
            <a:r>
              <a:rPr b="0" lang="es-ES" sz="2000" spc="-1" strike="noStrike">
                <a:solidFill>
                  <a:srgbClr val="473d33"/>
                </a:solidFill>
                <a:latin typeface="Verdana"/>
              </a:rPr>
              <a:t>,</a:t>
            </a:r>
            <a:r>
              <a:rPr b="0" sz="2000" spc="-1" strike="noStrike">
                <a:solidFill>
                  <a:srgbClr val="473d33"/>
                </a:solidFill>
                <a:latin typeface="Verdana"/>
              </a:rPr>
              <a:t> requires the Commissioner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473d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73d33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473d33"/>
                </a:solidFill>
                <a:latin typeface="Verdana"/>
              </a:rPr>
              <a:t>To </a:t>
            </a:r>
            <a:r>
              <a:rPr b="0" sz="2000" spc="-1" strike="noStrike">
                <a:solidFill>
                  <a:srgbClr val="473d33"/>
                </a:solidFill>
                <a:latin typeface="Verdana"/>
              </a:rPr>
              <a:t>promote education in, and awareness of, human rights in  member States</a:t>
            </a:r>
            <a:r>
              <a:rPr b="0" lang="es-ES" sz="2000" spc="-1" strike="noStrike">
                <a:solidFill>
                  <a:srgbClr val="473d33"/>
                </a:solidFill>
                <a:latin typeface="Verdana"/>
              </a:rPr>
              <a:t>;</a:t>
            </a:r>
            <a:r>
              <a:rPr b="0" sz="2000" spc="-1" strike="noStrike">
                <a:solidFill>
                  <a:srgbClr val="473d33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473d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73d33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473d33"/>
                </a:solidFill>
                <a:latin typeface="Verdana"/>
              </a:rPr>
              <a:t>To </a:t>
            </a:r>
            <a:r>
              <a:rPr b="0" sz="2000" spc="-1" strike="noStrike">
                <a:solidFill>
                  <a:srgbClr val="473d33"/>
                </a:solidFill>
                <a:latin typeface="Verdana"/>
              </a:rPr>
              <a:t>encourage the establishment of national « human rights » structures where such structures do not exist and co-operate actively with those which already exist</a:t>
            </a:r>
            <a:r>
              <a:rPr b="0" lang="es-ES" sz="2000" spc="-1" strike="noStrike">
                <a:solidFill>
                  <a:srgbClr val="473d33"/>
                </a:solidFill>
                <a:latin typeface="Verdana"/>
              </a:rPr>
              <a:t>;</a:t>
            </a:r>
            <a:r>
              <a:rPr b="0" sz="2000" spc="-1" strike="noStrike">
                <a:solidFill>
                  <a:srgbClr val="473d33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473d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73d33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473d33"/>
                </a:solidFill>
                <a:latin typeface="Verdana"/>
              </a:rPr>
              <a:t>To </a:t>
            </a:r>
            <a:r>
              <a:rPr b="0" sz="2000" spc="-1" strike="noStrike">
                <a:solidFill>
                  <a:srgbClr val="473d33"/>
                </a:solidFill>
                <a:latin typeface="Verdana"/>
              </a:rPr>
              <a:t>identif</a:t>
            </a:r>
            <a:r>
              <a:rPr b="0" lang="es-ES" sz="2000" spc="-1" strike="noStrike">
                <a:solidFill>
                  <a:srgbClr val="473d33"/>
                </a:solidFill>
                <a:latin typeface="Verdana"/>
              </a:rPr>
              <a:t>y</a:t>
            </a:r>
            <a:r>
              <a:rPr b="0" sz="2000" spc="-1" strike="noStrike">
                <a:solidFill>
                  <a:srgbClr val="473d33"/>
                </a:solidFill>
                <a:latin typeface="Verdana"/>
              </a:rPr>
              <a:t> possible shortcomings in the law and practice of member States with regard to </a:t>
            </a:r>
            <a:r>
              <a:rPr b="0" lang="es-ES" sz="2000" spc="-1" strike="noStrike">
                <a:solidFill>
                  <a:srgbClr val="473d33"/>
                </a:solidFill>
                <a:latin typeface="Verdana"/>
              </a:rPr>
              <a:t>HR’s </a:t>
            </a:r>
            <a:r>
              <a:rPr b="0" sz="2000" spc="-1" strike="noStrike">
                <a:solidFill>
                  <a:srgbClr val="473d33"/>
                </a:solidFill>
                <a:latin typeface="Verdana"/>
              </a:rPr>
              <a:t>compliance</a:t>
            </a:r>
            <a:r>
              <a:rPr b="0" lang="es-ES" sz="2000" spc="-1" strike="noStrike">
                <a:solidFill>
                  <a:srgbClr val="473d33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473d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73d33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473d33"/>
                </a:solidFill>
                <a:latin typeface="Verdana"/>
              </a:rPr>
              <a:t>To </a:t>
            </a:r>
            <a:r>
              <a:rPr b="0" sz="2000" spc="-1" strike="noStrike">
                <a:solidFill>
                  <a:srgbClr val="473d33"/>
                </a:solidFill>
                <a:latin typeface="Verdana"/>
              </a:rPr>
              <a:t>promote the effective observance of </a:t>
            </a:r>
            <a:r>
              <a:rPr b="0" lang="es-ES" sz="2000" spc="-1" strike="noStrike">
                <a:solidFill>
                  <a:srgbClr val="473d33"/>
                </a:solidFill>
                <a:latin typeface="Verdana"/>
              </a:rPr>
              <a:t>HR</a:t>
            </a:r>
            <a:r>
              <a:rPr b="0" sz="2000" spc="-1" strike="noStrike">
                <a:solidFill>
                  <a:srgbClr val="473d33"/>
                </a:solidFill>
                <a:latin typeface="Verdana"/>
              </a:rPr>
              <a:t> instruments and help member States in their efforts to remedy possible shortcomings</a:t>
            </a:r>
            <a:r>
              <a:rPr b="0" lang="es-ES" sz="2000" spc="-1" strike="noStrike">
                <a:solidFill>
                  <a:srgbClr val="473d33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0880"/>
            <a:ext cx="7848720" cy="10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Verdana"/>
              </a:rPr>
              <a:t>The Commissioner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Verdana"/>
              </a:rPr>
              <a:t>main func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1600200"/>
            <a:ext cx="7696080" cy="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3520" y="838080"/>
            <a:ext cx="76960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Verdana"/>
              </a:rPr>
              <a:t>The Commissioner’s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600200"/>
            <a:ext cx="7696080" cy="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2133720"/>
            <a:ext cx="4182840" cy="28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Verdana"/>
              </a:rPr>
              <a:t>Country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2080" indent="-495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Verdana"/>
              </a:rPr>
              <a:t>Human Rights assessment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2080" indent="-495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Verdana"/>
              </a:rPr>
              <a:t>Ongoing dialogue with gover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2080" indent="-495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Verdana"/>
              </a:rPr>
              <a:t>Focused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2080" indent="-495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88000" y="2133720"/>
            <a:ext cx="383832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66"/>
                </a:solidFill>
                <a:latin typeface="Verdana"/>
              </a:rPr>
              <a:t>2.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990000"/>
                </a:solidFill>
                <a:latin typeface="Verdana"/>
              </a:rPr>
              <a:t>Thematic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2080" indent="-495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Verdana"/>
              </a:rPr>
              <a:t>Immigrants, refugees, asyl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2080" indent="-495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Verdana"/>
              </a:rPr>
              <a:t>Roma/Sin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2080" indent="-495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Verdana"/>
              </a:rPr>
              <a:t>Rac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2080" indent="-495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Verdana"/>
              </a:rPr>
              <a:t>Persons with dis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2080" indent="-495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Verdana"/>
              </a:rPr>
              <a:t>Children’s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2080" indent="-495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Verdana"/>
              </a:rPr>
              <a:t>LG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380880"/>
            <a:ext cx="784872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990000"/>
                </a:solidFill>
                <a:latin typeface="Verdana"/>
              </a:rPr>
              <a:t>LGBT Monitoring Proje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600200"/>
            <a:ext cx="7696080" cy="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1989000"/>
            <a:ext cx="684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Times New Roman"/>
              </a:rPr>
              <a:t>To advise the Commissioner on LGBT human rights in Council of Europe member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Times New Roman"/>
              </a:rPr>
              <a:t>To draft Viewpoints and Issue Papers on LGBT related top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Times New Roman"/>
              </a:rPr>
              <a:t>To supervise the </a:t>
            </a:r>
            <a:r>
              <a:rPr b="1" i="1" lang="en-GB" sz="2400" spc="-1" strike="noStrike">
                <a:solidFill>
                  <a:srgbClr val="990000"/>
                </a:solidFill>
                <a:latin typeface="Times New Roman"/>
              </a:rPr>
              <a:t>Comparative study on the situation concerning homophobia, transphobia and discrimination on grounds of sexual orientation and gender identity in the Council of Europe member states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80880"/>
            <a:ext cx="784872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990000"/>
                </a:solidFill>
                <a:latin typeface="Verdana"/>
              </a:rPr>
              <a:t>LGBT Monitoring Proje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1600200"/>
            <a:ext cx="7696080" cy="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1989000"/>
            <a:ext cx="684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99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Times New Roman"/>
              </a:rPr>
              <a:t>To conduct specialised miss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Times New Roman"/>
              </a:rPr>
              <a:t>To represent the Commissioner in Expert Committees (DH-LGBT preparing a Recommendation for all 47 member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990000"/>
                </a:solidFill>
                <a:latin typeface="Times New Roman"/>
              </a:rPr>
              <a:t>etceter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380880"/>
            <a:ext cx="784872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990000"/>
                </a:solidFill>
                <a:latin typeface="Verdana"/>
              </a:rPr>
              <a:t>Results, outcomes, impa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1600200"/>
            <a:ext cx="7696080" cy="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1989000"/>
            <a:ext cx="68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99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59640" y="2565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1916280"/>
            <a:ext cx="7561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990000"/>
                </a:solidFill>
                <a:latin typeface="Times New Roman"/>
              </a:rPr>
              <a:t>View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990000"/>
                </a:solidFill>
                <a:latin typeface="Times New Roman"/>
              </a:rPr>
              <a:t>Yogyakarta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990000"/>
                </a:solidFill>
                <a:latin typeface="Times New Roman"/>
              </a:rPr>
              <a:t>Human rights and Gender Id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990000"/>
                </a:solidFill>
                <a:latin typeface="Times New Roman"/>
              </a:rPr>
              <a:t>Freedom of Assembly (Gay Pri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990000"/>
                </a:solidFill>
                <a:latin typeface="Times New Roman"/>
              </a:rPr>
              <a:t>LGBT specific sections in the Commissioner’s country assessment reports (</a:t>
            </a:r>
            <a:r>
              <a:rPr b="1" i="1" lang="en-GB" sz="2400" spc="-1" strike="noStrike">
                <a:solidFill>
                  <a:srgbClr val="990000"/>
                </a:solidFill>
                <a:latin typeface="Times New Roman"/>
              </a:rPr>
              <a:t>useful for lobby domestically</a:t>
            </a:r>
            <a:r>
              <a:rPr b="1" lang="en-GB" sz="2400" spc="-1" strike="noStrike">
                <a:solidFill>
                  <a:srgbClr val="99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99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xpert meeting “Human Rights situation of Transgender People and Discrimination based on Gender Identity ” (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basis for forthcoming Issue Paper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380880"/>
            <a:ext cx="784872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990000"/>
                </a:solidFill>
                <a:latin typeface="Verdana"/>
              </a:rPr>
              <a:t>Results, outcomes, impa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600200"/>
            <a:ext cx="7696080" cy="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1989000"/>
            <a:ext cx="68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99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2565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1916280"/>
            <a:ext cx="7561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Times New Roman"/>
              </a:rPr>
              <a:t> ‘</a:t>
            </a:r>
            <a:r>
              <a:rPr b="1" lang="en-GB" sz="2400" spc="-1" strike="noStrike">
                <a:solidFill>
                  <a:srgbClr val="990000"/>
                </a:solidFill>
                <a:latin typeface="Times New Roman"/>
              </a:rPr>
              <a:t>Silent diplomacy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990000"/>
                </a:solidFill>
                <a:latin typeface="Times New Roman"/>
              </a:rPr>
              <a:t>Launch of big study into homophobia and transphobia in all 47 Council of Europe member states (</a:t>
            </a:r>
            <a:r>
              <a:rPr b="1" i="1" lang="en-GB" sz="2400" spc="-1" strike="noStrike">
                <a:solidFill>
                  <a:srgbClr val="990000"/>
                </a:solidFill>
                <a:latin typeface="Times New Roman"/>
              </a:rPr>
              <a:t>starting this autumn</a:t>
            </a:r>
            <a:r>
              <a:rPr b="1" lang="en-GB" sz="2400" spc="-1" strike="noStrike">
                <a:solidFill>
                  <a:srgbClr val="99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990000"/>
                </a:solidFill>
                <a:latin typeface="Times New Roman"/>
              </a:rPr>
              <a:t>Strong presence in the intergovernmental working group DH-LGBT to prepare Recommend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990000"/>
                </a:solidFill>
                <a:latin typeface="Times New Roman"/>
              </a:rPr>
              <a:t>Work with Ombudspersons and NH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17:02:00Z</dcterms:created>
  <dc:creator>Simona GHITA-WISSENMEYER</dc:creator>
  <dc:description/>
  <dc:language>en-US</dc:language>
  <cp:lastModifiedBy>van-der-veur</cp:lastModifiedBy>
  <dcterms:modified xsi:type="dcterms:W3CDTF">2009-09-29T08:05:29Z</dcterms:modified>
  <cp:revision>82</cp:revision>
  <dc:subject/>
  <dc:title>Commissioner for  Human Righ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