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F9D-AA8A-4507-A905-1E427B24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D1B-40C7-42C2-AEE1-A95B7B8A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0DD-CF57-43E4-9A08-47AFAA2B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E49-376B-46A4-B96C-0AE4AC58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CCC-2160-45E5-A2A0-18A840BC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38D-59C4-4C7B-B3C2-BE833E23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6E2-9D60-498B-8AA4-97C385E3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FC9-7588-4A0C-9889-3FAD978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5E4-B22C-4053-B52F-97E3C019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179-480C-46ED-A91E-FC8F2B19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754-21B7-47DA-8DD0-DD915CC6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A33-ECBC-4F36-A83B-2B316BB5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CFCA-A47D-40E1-9F74-1B756A4DD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26264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uropean Court of Justice and Same-sex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65720"/>
            <a:ext cx="9144000" cy="287640"/>
          </a:xfrm>
          <a:prstGeom prst="rect">
            <a:avLst/>
          </a:prstGeom>
          <a:gradFill rotWithShape="0">
            <a:gsLst>
              <a:gs pos="0">
                <a:srgbClr val="7aabf2">
                  <a:alpha val="77254"/>
                </a:srgbClr>
              </a:gs>
              <a:gs pos="100000">
                <a:srgbClr val="d3e3f9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256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CSOL-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GBT families under European and internation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games Human Rights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enhagen, 28 Jul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484280"/>
            <a:ext cx="28800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mut Graup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2349360"/>
            <a:ext cx="684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7393f9">
                      <a:alpha val="50000"/>
                    </a:srgbClr>
                  </a:outerShdw>
                </a:effectLst>
                <a:latin typeface="Aunchanted Expanded Bold"/>
              </a:rPr>
              <a:t>The Maruko &amp; Römer Cas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7393f9">
                    <a:alpha val="50000"/>
                  </a:srgbClr>
                </a:outerShdw>
              </a:effectLst>
              <a:latin typeface="Aunchanted Expanded Bold"/>
              <a:ea typeface="Aunchanted Expanded Bold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graupner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1618920" y="35208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 Reaction of German High Courts</a:t>
            </a:r>
            <a:br>
              <a:rPr sz="32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decisions on family allowance for civil servants, § 40 Abs. 1 Nr. 1 BBes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deral Administrative Court („Bundesverwaltungsgericht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C 33.06, 15.11.2007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rability,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RP and marriage are not identic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ifferences for instance regarding social benefits for civil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ants, in tax legislation and joint ado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omplete or general equalization was neither done nor intended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e legi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deral Constitutional Court („Bundesverfassungsgericht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BvR 1830/0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06.05.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rability,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 general statutory eq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equalization was not the intention of the legisl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no blanket cl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) special regulations with deviations form the law of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 complete equalization in the law of public sector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ill differences in remuneration and pension-righ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spouses typically in need of alimony by partner; RP typically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rrelevant that civil law maintenance-obligations are identical (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riage and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eq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ircular reasoning (if general equalization would have taken place 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equality would exist, and question of discrimination would no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ization in social benefits for public sector employe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ircular reasoning (discrimination is justified with anoth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i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/non-typical need of alimony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general-abstract approach which contradicts the individua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rete view of the EC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family-allowance is not dependend upon a need of alimony (als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less civil servants receive it. Even if their married partn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ns more then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law of Bundesverwaltungs- and Bundesverfassungsge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ontradict ECJ in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is view is not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n any way not unreas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bligation to refer to the ECJ (asking for the criteria for the test of compar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ituation of married and registered partners are not compa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then question of indirect discrimination (by referring to the exclusively heterosexual criterion “marriag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bligation to refer to the EC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uko could go up to the ECJ two mor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G München 30.10.2008 (not fin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awarded survivors pension to Mr. Maruk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surviving RP and surviving married partners in a comparable situation,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) survivors benefits are substitutes for alimony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) alimony-duties are the same in RP and m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cas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ömer vs. City of Hambur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-147/08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higher retirement pension for employee with married partner then fo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loyee with R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even if married partner has higher income then employee and they ha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even if RP is in need of alimony by the employee and they have to 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will the ECJ specify or extend the Maruko-judg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gradFill rotWithShape="0">
            <a:gsLst>
              <a:gs pos="0">
                <a:srgbClr val="2121ff">
                  <a:alpha val="46274"/>
                </a:srgbClr>
              </a:gs>
              <a:gs pos="100000">
                <a:srgbClr val="bbe0e3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en-US" sz="3600" spc="-1" strike="noStrike">
                <a:solidFill>
                  <a:srgbClr val="00004c"/>
                </a:solidFill>
                <a:latin typeface="Arial"/>
              </a:rPr>
              <a:t>graup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dao Maruko geg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sorgungsanstalt der deutschen Bühnen (VddB) </a:t>
            </a:r>
            <a:br>
              <a:rPr sz="24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C-267/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ans Hettinger: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costume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45 years member of Vd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45 years paid fees to VddB as hi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heterosexual collea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13 years of partnership with Mr. Tada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 2001 registered their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died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ddB: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-&gt; survivors benefits only to married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no pension to Tadao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adao Maruko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-&gt; legal 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ayrVG München M 3 K 05.15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ayrVG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ferral for a preliminary r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direct discrimin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discrimination justified by recital 22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cital 22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Directive is without prejudic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laws on marital statu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enefits dependent there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VddB &amp; U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-&gt; unequal treatment of married couples an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stered couples are outside of the scope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rective (due to recital 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763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-&gt; no direct discrimination (no referral to sexual orient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-&gt; indirect discrimination &amp; no justification vi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-&gt; but only: if RP is marriage-equivalent („substantially the same effects“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adao Maruk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discrimination (as referral to pregnancy is direct discrimination on the ground of sex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eeds not be decided, as in an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Indirect discrimin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t only in case of RP equivalent to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as long as marriage is forbidden for same-sex cou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on of marriage always is just „apparently neutral“ and puts homosexuals „at a particular disadvantage” (Art. 2 par. 2 lit.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y is made contingent upon a condition which same-sex couples never ever can ful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as in K.B. (2004) (opposite-sex couples with post-operative transgender partner were not allowed to marr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dition of marriage must be dropped for same-sex couples (as long as marriage is not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therwise: little discrimination (in MS with marriage-equivalent RP) outlawed, but big discrimination (in MS without such RP) not (despite same unequal trea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00000"/>
                </a:solidFill>
                <a:latin typeface="Arial"/>
              </a:rPr>
              <a:t>Advocate General </a:t>
            </a:r>
            <a:br>
              <a:rPr sz="3000"/>
            </a:br>
            <a:r>
              <a:rPr b="0" i="1" lang="de-DE" sz="3000" spc="-1" strike="noStrike">
                <a:solidFill>
                  <a:srgbClr val="000000"/>
                </a:solidFill>
                <a:latin typeface="Arial"/>
              </a:rPr>
              <a:t>Dámaso Ruiz-Jarabo Colom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763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no direct discrimination (no referral to sexual ori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indirect discrimination &amp; no justification vi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but only: if RP is marriage-equivalent („substantially the same effects“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 of comparative paramete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arriage-RP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opposite-sex couples vs. same-sex coupl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he Judgment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01.04.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cital 2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al 22 cannot affect the application of the Directive (par. 59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rect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f registered partners „in comparable situation“ as married partners (par. 70-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. 2 par. 1 lit. a Dir 2000/78/E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discrimination …where one person is treated less favoura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another … in a comparable situation,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Justification only possible under Art. 4 Abs. 1 („genuine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determining occupational requirement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„comparable situation“</a:t>
            </a: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) form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ation is task of the national court (par. 72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) in sub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„Comparability“, not „Identity“ (par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 far as concerns that survivor’s benef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 (par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ndividual-concrete comparison with the „situation comparable to that of a spouse who is entitled to the survivor’s benefit provided for under the occupational pension scheme managed by the VddB.“ (par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riteria of the national court (par. 62, 69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formally constituted fo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ion of mutual support and as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ECJ does not object to these criteria and explicitly say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combined provisions of Articles 1 and 2 of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ive 2000/78 preclude legislation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uch a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that at issue in the main proceeding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…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mphasis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Compare to the judgment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laci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00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hibition on any discrimination on grounds of age … must be interpreted as not precluding national legislatio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ch as that at issue in the main procee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[follow criteria which the national court has to apply in determining compatibility with community law]” (emphasis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0:36:17Z</dcterms:created>
  <dc:creator>HG</dc:creator>
  <dc:description/>
  <dc:language>en-US</dc:language>
  <cp:lastModifiedBy>hg</cp:lastModifiedBy>
  <dcterms:modified xsi:type="dcterms:W3CDTF">2009-07-27T23:16:34Z</dcterms:modified>
  <cp:revision>121</cp:revision>
  <dc:subject/>
  <dc:title>Folie 1</dc:title>
</cp:coreProperties>
</file>